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20.jpeg" ContentType="image/jpeg"/>
  <Override PartName="/ppt/media/image21.jpeg" ContentType="image/jpeg"/>
  <Override PartName="/ppt/media/image16.jpeg" ContentType="image/jpeg"/>
  <Override PartName="/ppt/media/image3.jpeg" ContentType="image/jpeg"/>
  <Override PartName="/ppt/media/image37.jpeg" ContentType="image/jpeg"/>
  <Override PartName="/ppt/media/image60.jpeg" ContentType="image/jpeg"/>
  <Override PartName="/ppt/media/image77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4825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E148-FE85-4542-8DBD-1CEC476D6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F196-B839-409B-845D-5C3A7F8B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A8FE-D4BE-4A6B-9E95-C7B80C6A2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68CB-5306-4065-8579-3A37AE3A3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F033-923B-49CB-A024-140433D8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86A4-91B1-441A-A785-91ED5F46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B8F7-BF4F-4DCB-A37A-7E728528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C7FC-474D-42D9-A7AD-A7997F7E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3C1F-5DAF-4616-A7E5-385138C9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ED0C-E090-4E72-83FB-25F60243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200E-A900-4652-9CD4-4A3AC1BD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CACE-449D-4176-B56B-24683592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  <a:ea typeface="Times New Roman (Hebrew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F268-0D12-4300-A3E5-A6964EEE89E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480" y="74520"/>
            <a:ext cx="8915400" cy="6019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33920" y="457200"/>
            <a:ext cx="510516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r" rtl="1">
              <a:lnSpc>
                <a:spcPct val="150000"/>
              </a:lnSpc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דגשים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r" rtl="1">
              <a:lnSpc>
                <a:spcPct val="150000"/>
              </a:lnSpc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. את הדופן המחוררת יש להתקין בכיוון הפונה אל הכבי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r" rtl="1">
              <a:lnSpc>
                <a:spcPct val="150000"/>
              </a:lnSpc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. אחוז החירור המומלץ – 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r" rtl="1">
              <a:lnSpc>
                <a:spcPct val="150000"/>
              </a:lnSpc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    עובי שמיכת צמר סלעים – 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 ס"מ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r" rtl="1">
              <a:lnSpc>
                <a:spcPct val="150000"/>
              </a:lnSpc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. ניתן להתקין אלמנט בולע דו צדדי הכולל  פלטה מחוררת     משני צדדיו ופלטה אטומה במרכזו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(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אלמנט כזה הותקן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r" rtl="1">
              <a:lnSpc>
                <a:spcPct val="150000"/>
              </a:lnSpc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    למשל בפרוייקט איילון מרכז קטע רוקח – ההלכה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Times New Roman (Hebrew)"/>
              </a:rPr>
              <a:t>חומרים לעיצוב מתרסי הרעש – קיר אלומיניו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6400800"/>
            <a:ext cx="2286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פרוייקט: איילון מרכז, חב’ נתיבי איילון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Times New Roman (Hebrew)"/>
              </a:rPr>
              <a:t>שילוב של חומרים לעיצוב מתרסי הרעש-קיר זקוף וסוללת עפ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6324480"/>
            <a:ext cx="48006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פרוייקטים: מחלף אלוף שדה,  מע”צ; איילון צפון, חב’ נתיבי איילון; כביש 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6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, חב’ דרך אר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איור מתוך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The Good Road Guide,DOT, UK,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4048200" cy="1609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28600" y="2514600"/>
            <a:ext cx="4048200" cy="78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28600" y="3429000"/>
            <a:ext cx="4048200" cy="267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4495680" y="762120"/>
            <a:ext cx="4429080" cy="244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4495680" y="3429000"/>
            <a:ext cx="4429080" cy="267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505320" y="4495680"/>
            <a:ext cx="5190840" cy="179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57200" y="2895480"/>
            <a:ext cx="4200480" cy="153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47840" y="1066680"/>
            <a:ext cx="4200480" cy="168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228600" y="152280"/>
            <a:ext cx="883908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Times New Roman (Hebrew)"/>
              </a:rPr>
              <a:t>שילוב מתרס הרעש עם סביבתו – תכנון קצה הקיר האקוסט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(דוגמא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I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1066680"/>
            <a:ext cx="4114800" cy="32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דגשים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. “שבירה” אחורית של הקיר ונטיעות בסמוך      לקצהו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. “שבירה מעוגלת” של  הקיר ונטיעות בסמוך לקצהו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. אדניות לריכוך קצה הקיר ושילובו בסביבה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000000"/>
                </a:solidFill>
                <a:latin typeface="Arial"/>
              </a:rPr>
              <a:t>הערה: בתכנון קצה הקיר יש לקחת בחשבון שיקולים  של בטיחות תנוע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11095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29718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05920" y="46339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6434280"/>
            <a:ext cx="4114800" cy="34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Noise Barrier Design Handbook, FHWA,19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64008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מ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ק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ור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1143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80880" y="4572000"/>
            <a:ext cx="2905200" cy="176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943600" y="4343400"/>
            <a:ext cx="2819520" cy="1866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943600" y="3124080"/>
            <a:ext cx="2828880" cy="105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80880" y="3352680"/>
            <a:ext cx="5191200" cy="100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380880" y="762120"/>
            <a:ext cx="3971880" cy="84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1066680" y="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189000"/>
            <a:ext cx="87631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Times New Roman (Hebrew)"/>
              </a:rPr>
              <a:t>שילוב מתרס הרעש עם סביבתו – תכנון קצה הקיר האקוסט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(דוגמ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II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95680" y="1066680"/>
            <a:ext cx="4419720" cy="24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דגשים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. קיר שאינו מדורג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. דירוג הקיר בשיפוע 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1:2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 או יותר ונטיעות בסיומו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. גינון בסמוך לקצה הקיר לצורך שילובו המיטבי בסביבה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6324480"/>
            <a:ext cx="4724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פרוייקטים: איילון דרום, חב’ נתיבי איילון; מחלף בר אילן, מע”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איורים מתוך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ise Barrier Design Handbook, FHWA, 19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38480" y="838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34765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58200" y="317196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380880" y="1676520"/>
            <a:ext cx="3971880" cy="16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380880" y="4495680"/>
            <a:ext cx="2600280" cy="175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3048120" y="4495680"/>
            <a:ext cx="2523960" cy="176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0880" y="64008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   פרוייקטים: כבי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,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חב' דרך ארץ; כביש מכבית, מע"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763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Times New Roman (Hebrew)"/>
              </a:rPr>
              <a:t>שילוב מתרס הרעש עם סביבתו – תכנון שולי סוללת עפר-כבי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2800440" cy="35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390840" y="685800"/>
            <a:ext cx="2629080" cy="35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172200" y="685800"/>
            <a:ext cx="2381400" cy="35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380880" y="4324320"/>
            <a:ext cx="4048200" cy="1924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4572000" y="4343400"/>
            <a:ext cx="397188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2430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Times New Roman (Hebrew)"/>
              </a:rPr>
              <a:t>שילוב מתרס הרעש עם סביבתו בנוף הכפרי והפרבר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19920" y="1353960"/>
            <a:ext cx="2895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דגשים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שימוש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בשפת הנוף הכפרי מקומי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5977080"/>
            <a:ext cx="2971800" cy="33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The Good Road Guide,DOT, UK,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8120" y="58975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מ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ק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ור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6353280"/>
            <a:ext cx="29718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פרוייקטים:  כביש 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9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,חב' מוריה, ירושלי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3886200" cy="135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724280" y="914400"/>
            <a:ext cx="1019160" cy="1380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33520" y="2666880"/>
            <a:ext cx="2523960" cy="321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3191040" y="2666880"/>
            <a:ext cx="2752560" cy="321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6019920" y="2286000"/>
            <a:ext cx="260028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3880" y="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Times New Roman (Hebrew)"/>
              </a:rPr>
              <a:t>שילוב אלמנטי הכביש עם הקיר האקוסט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6400800"/>
            <a:ext cx="45720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"/>
                <a:cs typeface="Times New Roman (Hebrew)"/>
              </a:rPr>
              <a:t>פרוייקטים: כביש </a:t>
            </a:r>
            <a:r>
              <a:rPr b="0" lang="he-IL" sz="12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6</a:t>
            </a:r>
            <a:r>
              <a:rPr b="0" lang="he-IL" sz="12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, חב' דרך ארץ; איילון דרום, חב' נתיבי איילון; כביש </a:t>
            </a:r>
            <a:r>
              <a:rPr b="0" lang="he-IL" sz="12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531</a:t>
            </a:r>
            <a:r>
              <a:rPr b="0" lang="he-IL" sz="12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, מע”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2828880" cy="321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209760" y="609480"/>
            <a:ext cx="2810160" cy="321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172200" y="609480"/>
            <a:ext cx="2523960" cy="318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228600" y="3962520"/>
            <a:ext cx="4352760" cy="2324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4724280" y="3962520"/>
            <a:ext cx="3971880" cy="234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4248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Times New Roman (Hebrew)"/>
              </a:rPr>
              <a:t>ריכוך המופע החזותי של מתרס הרעש גבוה</a:t>
            </a:r>
            <a:br>
              <a:rPr sz="2800"/>
            </a:b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(דוגמא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I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6400800"/>
            <a:ext cx="4572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פרוייקטים: כביש 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6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, חב’ דרך ארץ; כביש מכבית, מע”צ; איילון דרום, חב’ נתיבי איילו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80880" y="923760"/>
            <a:ext cx="4048200" cy="258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638600" y="914400"/>
            <a:ext cx="4276800" cy="260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380880" y="3657600"/>
            <a:ext cx="4048200" cy="264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4648320" y="3657600"/>
            <a:ext cx="4276440" cy="26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4248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Times New Roman (Hebrew)"/>
              </a:rPr>
              <a:t>ריכוך המופע החזותי של מתרס הרעש גבוה</a:t>
            </a:r>
            <a:br>
              <a:rPr sz="2800"/>
            </a:b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(דוגמא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II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6400800"/>
            <a:ext cx="3733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פרוייקטים: כביש מכבית, מע”צ; כביש 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4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(בגין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,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חב' מוריה, ירושלי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4124520" cy="252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638600" y="990720"/>
            <a:ext cx="4124520" cy="253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376200" y="3733920"/>
            <a:ext cx="8391600" cy="252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781680" y="3505320"/>
            <a:ext cx="2190960" cy="267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971800" y="3886200"/>
            <a:ext cx="3753000" cy="23050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371520" y="3886200"/>
            <a:ext cx="2523960" cy="229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380880" y="457200"/>
            <a:ext cx="2895840" cy="328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620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Times New Roman (Hebrew)"/>
              </a:rPr>
              <a:t>תכנון מתרסי הרעש - ממה יש ל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cs typeface="Times New Roman (Hebrew)"/>
              </a:rPr>
              <a:t>י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Times New Roman (Hebrew)"/>
              </a:rPr>
              <a:t>מנע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800600" y="609480"/>
            <a:ext cx="40384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דגשים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he-IL" sz="1600" spc="-1" strike="noStrike">
                <a:solidFill>
                  <a:srgbClr val="000000"/>
                </a:solidFill>
                <a:latin typeface="Times New Roman"/>
              </a:rPr>
              <a:t>.יש להימנע מחללים הקוטעים את רציפות הקיר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he-IL" sz="1600" spc="-1" strike="noStrike">
                <a:solidFill>
                  <a:srgbClr val="000000"/>
                </a:solidFill>
                <a:latin typeface="Times New Roman"/>
              </a:rPr>
              <a:t>. יש להימנע מסדקים/חללים בקיר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he-IL" sz="1600" spc="-1" strike="noStrike">
                <a:solidFill>
                  <a:srgbClr val="000000"/>
                </a:solidFill>
                <a:latin typeface="Times New Roman"/>
              </a:rPr>
              <a:t>. יש להבטיח כי החפיפה בין שני קצוות הסולל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	</a:t>
            </a:r>
            <a:r>
              <a:rPr b="1" lang="he-IL" sz="1600" spc="-1" strike="noStrike">
                <a:solidFill>
                  <a:srgbClr val="000000"/>
                </a:solidFill>
                <a:latin typeface="Times New Roman"/>
              </a:rPr>
              <a:t>תהיה מספקת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he-IL" sz="1600" spc="-1" strike="noStrike">
                <a:solidFill>
                  <a:srgbClr val="000000"/>
                </a:solidFill>
                <a:latin typeface="Times New Roman"/>
              </a:rPr>
              <a:t>. יש להימנע מחללים הנוצרים בנקודות החיבו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imes New Roman"/>
              </a:rPr>
              <a:t>     של האלמנטי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95480" y="6094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14600" y="39625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686800" y="3581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24480" y="39625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76920" y="4038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4648320"/>
            <a:ext cx="160020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487692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8077320" y="411480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6668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1066680"/>
            <a:ext cx="609480" cy="1524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14400" y="441972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752480" y="45720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05120" y="609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6400800"/>
            <a:ext cx="4572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פרוייקטים:  כביש 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6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, חב’ דרך ארץ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;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איילון דרום, חב’ נתיבי איילון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;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כביש 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5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,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מע”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523880" y="903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Times New Roman (Hebrew)"/>
              </a:rPr>
              <a:t>שילוב אלמנטי הכביש עם סוללת העפ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6400800"/>
            <a:ext cx="4876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פרוייקטים:  כביש מכבית, מע"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;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איילון דרום, חב’ נתיבי איילון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;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כביש 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,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חב' מוריה ,ירושלי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3743280" cy="280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09480" y="3657600"/>
            <a:ext cx="3743280" cy="2638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4572000" y="3648240"/>
            <a:ext cx="3514680" cy="267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4495680" y="762120"/>
            <a:ext cx="3581640" cy="268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522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Times New Roman (Hebrew)"/>
              </a:rPr>
              <a:t>חומרי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Times New Roman (Hebrew)"/>
              </a:rPr>
              <a:t>לעיצוב מתרסי הרעש- קיר אקוסטי בעל מקדם  בליעה גבוה (דוגמ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1143000"/>
            <a:ext cx="4114800" cy="24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דגשים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את חזית הקיר "הבולעת" יש להפנות אל כיוון מקור הרע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מקדמי הבליעה ייקבעו בהתאם לעוצמת הגל המוחזר עפ"י תקן אירופאי מס'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-1793-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 (קטגוריות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2-A4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6400800"/>
            <a:ext cx="3429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פרוייקטים: איילון דרום, חב’ נתיבי איילון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;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כביש מכבית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,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מע”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4352760" cy="25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8600" y="3733920"/>
            <a:ext cx="4352760" cy="257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724280" y="3733920"/>
            <a:ext cx="4276800" cy="258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4114800" cy="261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9" name=""/>
          <p:cNvSpPr/>
          <p:nvPr/>
        </p:nvSpPr>
        <p:spPr>
          <a:xfrm>
            <a:off x="533520" y="6324480"/>
            <a:ext cx="2438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פרוייקטים:  כביש 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,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חב' מוריה ,ירושלי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264960"/>
            <a:ext cx="88394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Times New Roman (Hebrew)"/>
              </a:rPr>
              <a:t>מערך מפוצל של מתרסי רע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(קיר פנימי בעל מקדם בליעה גבוה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76920" y="1504800"/>
            <a:ext cx="4038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דגשים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הקיר הפנימי הוא בעל חזית "בולעת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 בכיוון הפונה למגורים (ולמקור רעש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457200" y="3790800"/>
            <a:ext cx="4114800" cy="245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4800600" y="3809880"/>
            <a:ext cx="3276720" cy="245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0" y="3733920"/>
            <a:ext cx="427680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0880" y="3686040"/>
            <a:ext cx="4048200" cy="256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80880" y="1066680"/>
            <a:ext cx="4048200" cy="256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380880" y="380988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6381720"/>
            <a:ext cx="35816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פרוייקטים: איילון מרכז, חב’ נתיבי איילון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;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כביש 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6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, חב’ דרך ארץ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522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Times New Roman (Hebrew)"/>
              </a:rPr>
              <a:t>חומרים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Times New Roman (Hebrew)"/>
              </a:rPr>
              <a:t>לעיצוב מתרסי הרעש- קיר אקוסטי בעל מקדם  בליעה גבוה (דוגמ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1114560"/>
            <a:ext cx="411480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דגשים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קיר אקוסטי בעל מקדם בליעה גבוה הנושא את עצמו (עמודי תמיכה גלויים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2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. 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קיר אקוסטי בעל מקדם בליעה גבוה הנושא את עצמו (עמודי תמיכה מוסתרים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3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. 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החומר הבולע משולב בקיר התמך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11430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38098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486640" y="378144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09480" y="1522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Times New Roman (Hebrew)"/>
              </a:rPr>
              <a:t>חומרי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Times New Roman (Hebrew)"/>
              </a:rPr>
              <a:t>לעיצוב מתרסי הרעש- קירות גננים (ירוקים) זקופי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6400800"/>
            <a:ext cx="4572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פרוייקטים:  כביש 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6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, חב’ דרך ארץ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;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איילון דרום, חב’ נתיבי איילון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;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כביש 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5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,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מע”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3895920" cy="313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724280" y="685800"/>
            <a:ext cx="4048200" cy="313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19200" y="3962520"/>
            <a:ext cx="3876480" cy="2324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791240" y="3962520"/>
            <a:ext cx="3971880" cy="229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1429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Times New Roman (Hebrew)"/>
              </a:rPr>
              <a:t>חומרים לעיצוב מתרסי הרעש- קירות מיוחדים ("מצחיה"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1047600"/>
            <a:ext cx="3810240" cy="13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דג</a:t>
            </a:r>
            <a:r>
              <a:rPr b="1" lang="he-IL" sz="1600" spc="-1" strike="noStrike">
                <a:solidFill>
                  <a:srgbClr val="000000"/>
                </a:solidFill>
                <a:latin typeface="Times New Roman"/>
              </a:rPr>
              <a:t>שים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he-IL" sz="1600" spc="-1" strike="noStrike">
                <a:solidFill>
                  <a:srgbClr val="000000"/>
                </a:solidFill>
                <a:latin typeface="Times New Roman"/>
              </a:rPr>
              <a:t>. תוספת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he-IL" sz="1600" spc="-1" strike="noStrike">
                <a:solidFill>
                  <a:srgbClr val="000000"/>
                </a:solidFill>
                <a:latin typeface="Times New Roman"/>
              </a:rPr>
              <a:t>מצחיה"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ל</a:t>
            </a:r>
            <a:r>
              <a:rPr b="1" lang="he-IL" sz="1600" spc="-1" strike="noStrike">
                <a:solidFill>
                  <a:srgbClr val="000000"/>
                </a:solidFill>
                <a:latin typeface="Times New Roman"/>
              </a:rPr>
              <a:t>הגדלת היעילות</a:t>
            </a:r>
            <a:r>
              <a:rPr b="1" lang="he-IL" sz="16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</a:t>
            </a:r>
            <a:r>
              <a:rPr b="1" lang="he-IL" sz="1600" spc="-1" strike="noStrike">
                <a:solidFill>
                  <a:srgbClr val="000000"/>
                </a:solidFill>
                <a:latin typeface="Times New Roman"/>
              </a:rPr>
              <a:t>האקוסטית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5834160"/>
            <a:ext cx="45720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La Rumorosita Ambievtale Barriere Acoustiche: Bologna, 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Roadside Noise Abatement, OECD, 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57913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מ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ק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ור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6400800"/>
            <a:ext cx="4572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פרוייקטים:  כביש 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4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(בגין), חב' מוריה, ירושלי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438360" cy="24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3438360" cy="252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809880" y="2514600"/>
            <a:ext cx="2448000" cy="320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324480" y="2514600"/>
            <a:ext cx="2505240" cy="320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0" y="3886200"/>
            <a:ext cx="4124160" cy="219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33520" y="3895560"/>
            <a:ext cx="3819240" cy="220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438280" y="838080"/>
            <a:ext cx="2067120" cy="27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304920" y="838080"/>
            <a:ext cx="1981080" cy="27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4648320" y="838080"/>
            <a:ext cx="426708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דג</a:t>
            </a:r>
            <a:r>
              <a:rPr b="1" lang="he-IL" sz="1600" spc="-1" strike="noStrike">
                <a:solidFill>
                  <a:srgbClr val="000000"/>
                </a:solidFill>
                <a:latin typeface="Times New Roman"/>
              </a:rPr>
              <a:t>שים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imes New Roman"/>
              </a:rPr>
              <a:t>תוספת אלמנט בולע בקצה העליון של הקיר להשגת הפחתת רעש</a:t>
            </a:r>
            <a:r>
              <a:rPr b="1" lang="he-IL" sz="16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</a:t>
            </a:r>
            <a:r>
              <a:rPr b="1" lang="he-IL" sz="1600" spc="-1" strike="noStrike">
                <a:solidFill>
                  <a:srgbClr val="000000"/>
                </a:solidFill>
                <a:latin typeface="Times New Roman"/>
              </a:rPr>
              <a:t>נוספת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ק</a:t>
            </a:r>
            <a:r>
              <a:rPr b="1" lang="he-IL" sz="1600" spc="-1" strike="noStrike">
                <a:solidFill>
                  <a:srgbClr val="000000"/>
                </a:solidFill>
                <a:latin typeface="Times New Roman"/>
              </a:rPr>
              <a:t>ירות משופעים להקטנת החזרות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429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Times New Roman (Hebrew)"/>
              </a:rPr>
              <a:t>חומרים לעיצוב מתרסי הרעש- קירות מיוחדים (המשך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7840" y="6215040"/>
            <a:ext cx="4572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La Rumorosita Ambievtale Barriere Acoustiche: Bologna, 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Roadside Noise Abatement, OECD, 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6172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מ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ק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ור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14800" y="9144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9144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39625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1880" y="39625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0" y="3809880"/>
            <a:ext cx="4200480" cy="252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04920" y="3800520"/>
            <a:ext cx="4200480" cy="252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04920" y="1171440"/>
            <a:ext cx="4200480" cy="248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1600200" y="152280"/>
            <a:ext cx="624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שילוב של חומרים לעיצוב מתרסי הרעש-אלמנטים שקופים המשולבים בקירות בטון ואחרי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1066680"/>
            <a:ext cx="411480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דג</a:t>
            </a:r>
            <a:r>
              <a:rPr b="1" lang="he-IL" sz="1600" spc="-1" strike="noStrike">
                <a:solidFill>
                  <a:srgbClr val="000000"/>
                </a:solidFill>
                <a:latin typeface="Times New Roman"/>
              </a:rPr>
              <a:t>שים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. 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שילוב קיר שקוף עם בלוקים וקיר זכוכית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. 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שילוב קיר שקוף עם בטון קורדרוי וקיר זכוכית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ש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ילוב קיר שקוף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עם קי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גנני זקוף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6400800"/>
            <a:ext cx="3352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פרוייקט: איילון דרום, חב’ נתיבי איילון; כביש מכבית, מע"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14800" y="12193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38862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458200" y="38862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95680" y="3876840"/>
            <a:ext cx="3895920" cy="2371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" y="3886200"/>
            <a:ext cx="3514680" cy="2371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57200" y="1143000"/>
            <a:ext cx="3362400" cy="258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457200" y="6400800"/>
            <a:ext cx="3276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פרוייקט: איילון דרום, חב’ נתיבי איילון; כביש מכבית, מע"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152280"/>
            <a:ext cx="624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שילוב של חומרים לעיצוב מתרסי הרעש-אלמנטים שקופים המשולבים בקירות בטון ואחרים (המשך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1295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39625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077320" y="39625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1066680"/>
            <a:ext cx="48006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דג</a:t>
            </a:r>
            <a:r>
              <a:rPr b="1" lang="he-IL" sz="1600" spc="-1" strike="noStrike">
                <a:solidFill>
                  <a:srgbClr val="000000"/>
                </a:solidFill>
                <a:latin typeface="Times New Roman"/>
              </a:rPr>
              <a:t>שים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ל</a:t>
            </a:r>
            <a:r>
              <a:rPr b="1" lang="he-IL" sz="1600" spc="-1" strike="noStrike">
                <a:solidFill>
                  <a:srgbClr val="000000"/>
                </a:solidFill>
                <a:latin typeface="Times New Roman"/>
              </a:rPr>
              <a:t>השגת יעילות אקוסטית טובה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he-IL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י</a:t>
            </a:r>
            <a:r>
              <a:rPr b="1" lang="he-IL" sz="1600" spc="-1" strike="noStrike">
                <a:solidFill>
                  <a:srgbClr val="000000"/>
                </a:solidFill>
                <a:latin typeface="Times New Roman"/>
              </a:rPr>
              <a:t>ש לאטום היטב את התפר ולוודא חפיפה טובה של</a:t>
            </a:r>
            <a:r>
              <a:rPr b="1" lang="he-IL" sz="16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האלמנטים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he-IL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מ</a:t>
            </a:r>
            <a:r>
              <a:rPr b="1" lang="he-IL" sz="1600" spc="-1" strike="noStrike">
                <a:solidFill>
                  <a:srgbClr val="000000"/>
                </a:solidFill>
                <a:latin typeface="Times New Roman"/>
              </a:rPr>
              <a:t>ומלץ להתקין את האלמנט השקוף מצידו האחורי של קיר הבטון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396252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143000" y="31240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743200" y="541008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0" y="4257720"/>
            <a:ext cx="3743280" cy="199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3520" y="4495680"/>
            <a:ext cx="313344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33520" y="2676600"/>
            <a:ext cx="3133440" cy="166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33520" y="762120"/>
            <a:ext cx="3133440" cy="1743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533520" y="6400800"/>
            <a:ext cx="3886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פרוייקטים: כביש 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6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, דרך ארץ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;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כביש מס' 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5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,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מע"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;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כביש מכבית, מע"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954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Times New Roman (Hebrew)"/>
              </a:rPr>
              <a:t>שילוב של חומרים לעיצוב מתרסי הרעש- קיר שקוף עם קונסטרוקצית בטו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685800"/>
            <a:ext cx="487692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דג</a:t>
            </a:r>
            <a:r>
              <a:rPr b="1" lang="he-IL" sz="1600" spc="-1" strike="noStrike">
                <a:solidFill>
                  <a:srgbClr val="000000"/>
                </a:solidFill>
                <a:latin typeface="Times New Roman"/>
              </a:rPr>
              <a:t>שים להבטחת היעילות האקוסטית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he-IL" sz="1600" spc="-1" strike="noStrike">
                <a:solidFill>
                  <a:srgbClr val="000000"/>
                </a:solidFill>
                <a:latin typeface="Times New Roman"/>
              </a:rPr>
              <a:t>.  יש להימנע מיצירת חללים בין פנל האלו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מ</a:t>
            </a:r>
            <a:r>
              <a:rPr b="1" lang="he-IL" sz="1600" spc="-1" strike="noStrike">
                <a:solidFill>
                  <a:srgbClr val="000000"/>
                </a:solidFill>
                <a:latin typeface="Times New Roman"/>
              </a:rPr>
              <a:t>ניום וק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ו</a:t>
            </a:r>
            <a:r>
              <a:rPr b="1" lang="he-IL" sz="1600" spc="-1" strike="noStrike">
                <a:solidFill>
                  <a:srgbClr val="000000"/>
                </a:solidFill>
                <a:latin typeface="Times New Roman"/>
              </a:rPr>
              <a:t>רת הבטון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he-IL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י</a:t>
            </a:r>
            <a:r>
              <a:rPr b="1" lang="he-IL" sz="1600" spc="-1" strike="noStrike">
                <a:solidFill>
                  <a:srgbClr val="000000"/>
                </a:solidFill>
                <a:latin typeface="Times New Roman"/>
              </a:rPr>
              <a:t>ש להקפיד על איטום המרווח האופקי בין פרופיל</a:t>
            </a:r>
            <a:r>
              <a:rPr b="1" lang="he-IL" sz="16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</a:t>
            </a:r>
            <a:r>
              <a:rPr b="1" lang="he-IL" sz="1600" spc="-1" strike="noStrike">
                <a:solidFill>
                  <a:srgbClr val="000000"/>
                </a:solidFill>
                <a:latin typeface="Times New Roman"/>
              </a:rPr>
              <a:t>האלומניום וקורת הבטון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he-IL" sz="1600" spc="-1" strike="noStrike">
                <a:solidFill>
                  <a:srgbClr val="000000"/>
                </a:solidFill>
                <a:latin typeface="Times New Roman"/>
              </a:rPr>
              <a:t>. קיר שקוף שאינו משולב עם מעקה הבטיחות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he-IL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ש</a:t>
            </a:r>
            <a:r>
              <a:rPr b="1" lang="he-IL" sz="1600" spc="-1" strike="noStrike">
                <a:solidFill>
                  <a:srgbClr val="000000"/>
                </a:solidFill>
                <a:latin typeface="Times New Roman"/>
              </a:rPr>
              <a:t>ילוב נכון של הקיר האקוסטי ושל מעקה הבטיחות באמצעות אלמנט קצה</a:t>
            </a:r>
            <a:r>
              <a:rPr b="1" lang="he-IL" sz="16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</a:t>
            </a:r>
            <a:r>
              <a:rPr b="1" lang="he-IL" sz="1600" spc="-1" strike="noStrike">
                <a:solidFill>
                  <a:srgbClr val="000000"/>
                </a:solidFill>
                <a:latin typeface="Times New Roman"/>
              </a:rPr>
              <a:t>מיוחד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838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27432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45720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001000" y="44197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219320" y="358128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400440" y="441972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44792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62120" y="5562360"/>
            <a:ext cx="10666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8T08:09:15Z</dcterms:created>
  <dc:creator>Igor</dc:creator>
  <dc:description/>
  <dc:language>en-US</dc:language>
  <cp:lastModifiedBy>avner</cp:lastModifiedBy>
  <dcterms:modified xsi:type="dcterms:W3CDTF">2009-05-16T19:10:31Z</dcterms:modified>
  <cp:revision>84</cp:revision>
  <dc:subject/>
  <dc:title>Slide 1</dc:title>
</cp:coreProperties>
</file>